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1D8EE-AD66-4CE1-B6E5-A7B18EACEB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0977B-F17A-46F0-9469-E32CD8F12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4EE000-B5E7-4B6C-865E-2CA8F9F9AF76}" type="slidenum">
              <a:rPr b="0" lang="en-US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917E0-3D20-480E-A22A-07A0275C914B}" type="slidenum">
              <a:rPr b="0" lang="en-US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2E2E-1C94-4D17-9E82-C03C11BE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9656-E88A-4C8C-920E-7D41DEDB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0C155C-FCCF-4309-BEFF-C3978727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82DB83-BB53-448A-B4A4-0537114A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2ECBAC-B083-4698-9ED1-4B4ADA20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F3DFEE-6273-4DBB-8CAA-8F8A063E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7C87F8-5E8E-448B-BF8D-D77E8322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B7BAC2-E35C-4294-B449-9987D7B5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CFAA61-86FD-4281-A2F9-A5802438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13BDDE-200F-4945-A3BE-927066D4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153A29-1D6E-4BA6-90B4-910602C3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3D60B-7417-4825-A29F-233C52F0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BBEB-BA9E-494A-9FC9-4D3F521B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9B2E22-A0CC-499D-BACD-AE06CE21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9EF984-E2AD-4E30-B114-ECC0A540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6C74D0-E4D4-4D97-B593-6B5BFB95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A080F7-EFDF-4ED7-8CE5-22834015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3083C-3C56-4A59-B983-AE5579AF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79B9BF-2536-42AE-B76F-1FCEC30F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3DA8B9-42AE-4049-BF92-853444B1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D32E9E-38DC-411B-A24F-BD86AC1B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17734D-3572-463D-B26D-D5D64E85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4849C7-6A49-4BD0-A98F-CF52D945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1BC6-9374-4B94-91DE-79FA70ED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3777EE-E260-496E-9B74-BE3EF845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3F27BA-F29C-406E-9F76-B9D6F815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7CE51E-065E-4AB4-BFFE-683FDA09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E74709-DEEF-4EEB-B418-9B163635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79330E-9ADC-4CF6-8CCC-CBBEEFEC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824273-2120-449E-A5E1-43AFBE4E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1432C1-FDC5-4FA3-9BFF-0B6338C0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56053C-39E8-43D2-989E-F4FC4E1B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CB70E3-7DB9-44CC-AB32-D080C10F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AFFEFC-0E60-4236-8252-BC4A8D42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AFE5-5419-41ED-B88D-DE7605AA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15B3EC-7AD3-4060-A59A-A8759425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CCF51C-7B97-41F6-8485-EB41E5BC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C4770D-6B68-4E9D-BCD5-1BC4C3F8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612A-76B6-4C2B-BF3E-61A529FC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ECD3-24CF-476A-88DF-2A19A284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165C-02A2-41A2-8FA2-42E212C1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5E18-9FBE-402E-AE63-D1CB3F61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9694-4A28-46F2-ADEF-9E541B8B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D875-AA76-40C7-A51B-3C3C7041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9014-1601-428D-96A8-E4C1A58E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EF09-ABD6-4173-B395-C908ED50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88D2-CDC7-4F1B-9C7E-B48656C8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3135-015A-42D0-9285-6408DEE3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0358-A462-4DFA-8E10-7B85BA31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F33F-B0B8-47E6-8017-2FA111AB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0AD9D-351B-421F-9482-929CC322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90A92-78D0-4580-9672-8CCCB0F5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6CAD9-3319-4681-AF05-00CB3C4A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A5F3A-1BCA-4D73-A892-FFEF5E6C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596F9-0CD8-4E97-B51F-5DCCAC19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A22D-E04D-417C-B53A-9AC9E39D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98958-8549-457B-9A7C-1A673E30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0F0A7-F3E4-4D03-8E24-CE90825F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9B602-4C68-45F8-A5F8-237598E4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F55DE-9FB3-43B8-8E4B-40703662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40C64-4E54-423E-88C8-658B6FD5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7D1B6-B732-4748-9D12-CBB0C85D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1A519-96F1-4059-93B3-3083D22E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B7ED0-563F-46B7-81E4-4338D27A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0B771-B49B-43B1-A273-FF6EDF61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93DCB-42C8-4A18-B404-E04701F3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DDDA-56D5-4CE1-9CA8-2FF23741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483B5-FE66-4B4A-8E67-3335FB72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F226B-B35A-438B-8CC6-B74AC62F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B63FF-6765-4C3C-8655-3B294D33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790F1-14FF-4231-8451-D55F3258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3D792-4A0D-4AF3-9519-009D1576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F86B6-B7DB-48F0-B439-BEB630AD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D7F4D-D2EA-463E-8E19-FDA2DCED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38FD4-97A3-48F9-AAC7-671750FA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D8AD9-7E6A-45D2-A77B-3327BA8D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7A863-7800-4879-BB05-78246DA1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3D88-429F-4320-92DF-71B915D6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12393-45DE-42D3-BEC1-C391CCD6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697A6-D348-4D96-8202-9D0FDC81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061DF-BF2F-4407-A9B2-18638029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4122E-221D-4D9F-8E7D-469412F5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332BC-F8BA-4DD4-BBAE-ADA2FAAD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48D78-A012-4814-9449-DEB6FAF2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10410-B074-4864-8879-E60E90DC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7EBD6-FB21-4D4A-B8A7-212CDAB6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C8B6D-9548-42CA-ADA3-EE09AF10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97F74-BF0C-4EF5-8397-096315B0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9D88-6F72-49C0-AE90-36B51808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C50C1-D1CD-4563-9798-5A13D781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1F149-C5E5-4A89-BFFC-C8C96364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90E3E-80E2-4791-9234-361624C8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02AFF-ECB3-4BEF-9609-D95BE706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1FD30-4A4C-4A34-9A04-55D52354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463AC-E258-45E9-A89D-B1124525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615D0-5909-4BB6-8382-434409E6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81FC4-01F7-480A-9B24-DE0B7396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946F3-BFB6-4251-9146-61E1BB17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454B4-695E-4745-82B5-D74E4492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FF1-A54E-4E39-ADEB-C9712903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E0BD9-878C-4D49-8BCC-5DCC37CD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82154-07BB-4035-B047-AA16F47F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2EF41-377D-446D-B6E9-A17F0C04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709AB-9E34-4F96-B67D-E232AC92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6AEE6-B711-42C7-99D5-58429A01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A56B4-61AE-4627-9346-ADD8EE77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79D50-44CF-4876-B5F6-A990077C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92EBD-80AB-4327-A081-42DCAF79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DA19D-88A5-44E0-8B10-E3380EBB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CEDA9-E694-49EF-BD62-53674D2B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B80C-B1B9-4257-8F61-6D5CF66E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C8A16-C4CE-4651-A72C-FB80BD01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373A0-7F10-41F7-A223-DED14A09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0B0FF-965F-4D2A-8662-7F7DF1E3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62397-FE53-4A26-BF57-88022D3B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06D5B-33A1-4325-BEB2-56FA4094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7381D-B54A-4258-BA77-784A61D5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5D1FA-26E0-4951-B80A-8D1E718D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D4686-0FD9-4B66-BD38-007486B3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2D5AE-627E-42CC-8332-276FD6ED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2390D-4FF1-42D9-B451-D9B436B2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A247-3B5A-4768-B068-68A0C6F1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94F4A-7761-4D3E-8FC4-35A719E1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FCAC1-4DE3-4121-90BF-BE86293E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97203-ADF5-40CE-AC01-78BB029E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EDE5E-7670-4C77-926E-B33E912F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F5B58-5558-4C7E-8687-D8B8AE70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03BAB-530E-40B4-B3B8-3DF10749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557CB-B0EC-409C-8167-260C42CB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60B369-755A-487D-8212-39BDCDCC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9472EF-4D36-42FA-BD6A-5669BA56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4A8564-1940-4049-9C1B-B4F3B922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69696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14C0E-D476-4825-AF56-204AF3B979E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24066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FC602-F7F3-4E52-B4E1-CA797E7FD0A1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FDE59-1A9C-43BC-8297-BFD7382C7456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DD978-D026-4AF8-9DEE-9211201F1D4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ED156D-3A87-4B20-8E6A-4A21E7A86597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7EC120-927D-4925-A2BE-9AD585455EB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CDCE6-E507-4DA8-AB81-14B019E1EC0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DDC45-8B67-47F3-8458-67C934B238A2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69696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24066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6E72F6-F9BC-4C51-8515-31DF653CEEE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361ED-CC7C-4E05-96D4-64CA355D5C00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13FBE8-7B97-460A-A848-93F02F6E4A6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C5FD7-19E6-4635-AEA3-9C2BF7656B96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69696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24066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468FE-C83B-4AC7-969F-92B36F2999B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D79059-F4F7-4890-9458-9858D91E3A5D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0372E8-00C7-40FD-B904-2B75753AD8F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23C48-8438-463A-826A-89CA35E46278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69696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24066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B85D85-E0B0-402E-964B-6AB6D4CB355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41809-995A-4220-AA77-C89D47BBE4F8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A6028-B9E2-4FDE-94AE-A45BB799459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A4F8FA-97A8-4DC4-A625-5EA6BE90D6D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44A46-D8BD-4F11-B511-668D7F5C0EB3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78ECE-A53F-4A9E-BE26-028E4805AE3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tzaccone@surewest.net" TargetMode="External"/><Relationship Id="rId2" Type="http://schemas.openxmlformats.org/officeDocument/2006/relationships/hyperlink" Target="mailto:slazarova@psusd.us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itle 1"/>
          <p:cNvSpPr/>
          <p:nvPr/>
        </p:nvSpPr>
        <p:spPr>
          <a:xfrm>
            <a:off x="533520" y="2662200"/>
            <a:ext cx="7985160" cy="1727280"/>
          </a:xfrm>
          <a:prstGeom prst="rect">
            <a:avLst/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236ff"/>
                </a:solidFill>
                <a:latin typeface="Georgia"/>
                <a:ea typeface="ＭＳ Ｐゴシック"/>
              </a:rPr>
              <a:t>Developing College, Career and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236ff"/>
                </a:solidFill>
                <a:latin typeface="Georgia"/>
                <a:ea typeface="ＭＳ Ｐゴシック"/>
              </a:rPr>
              <a:t>World-Ready Student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Subtitle 2"/>
          <p:cNvSpPr/>
          <p:nvPr/>
        </p:nvSpPr>
        <p:spPr>
          <a:xfrm>
            <a:off x="750960" y="4613400"/>
            <a:ext cx="765324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Facilitated by: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Tanya Zacco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Svetlana Lazarov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Duarte Silv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65" name="Picture 1" descr=""/>
          <p:cNvPicPr/>
          <p:nvPr/>
        </p:nvPicPr>
        <p:blipFill>
          <a:blip r:embed="rId1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566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Footer Placeholder 1"/>
          <p:cNvSpPr/>
          <p:nvPr/>
        </p:nvSpPr>
        <p:spPr>
          <a:xfrm>
            <a:off x="2478240" y="6410160"/>
            <a:ext cx="39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16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16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639360" y="140976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7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7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7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7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Title 1"/>
          <p:cNvSpPr/>
          <p:nvPr/>
        </p:nvSpPr>
        <p:spPr>
          <a:xfrm>
            <a:off x="228600" y="217440"/>
            <a:ext cx="883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236ff"/>
                </a:solidFill>
                <a:latin typeface="Georgia"/>
              </a:rPr>
              <a:t>Developing College, Career and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236ff"/>
                </a:solidFill>
                <a:latin typeface="Georgia"/>
              </a:rPr>
              <a:t>World Ready Students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TextBox 4"/>
          <p:cNvSpPr/>
          <p:nvPr/>
        </p:nvSpPr>
        <p:spPr>
          <a:xfrm>
            <a:off x="1785960" y="63579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TextBox 7"/>
          <p:cNvSpPr/>
          <p:nvPr/>
        </p:nvSpPr>
        <p:spPr>
          <a:xfrm>
            <a:off x="1119240" y="1562040"/>
            <a:ext cx="764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236ff"/>
                </a:solidFill>
                <a:latin typeface="Georgia"/>
              </a:rPr>
              <a:t>WHAT IS UCCI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TextBox 2"/>
          <p:cNvSpPr/>
          <p:nvPr/>
        </p:nvSpPr>
        <p:spPr>
          <a:xfrm>
            <a:off x="2413080" y="40813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UCCI Video4.mp4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itle 1"/>
          <p:cNvSpPr/>
          <p:nvPr/>
        </p:nvSpPr>
        <p:spPr>
          <a:xfrm>
            <a:off x="304920" y="3862440"/>
            <a:ext cx="8510400" cy="240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>
                <a:alpha val="75000"/>
              </a:srgbClr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13716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  <a:ea typeface="MS PGothic"/>
              </a:rPr>
              <a:t>Teams 80+ instructors, administrators, curriculum specialists, UC staf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371600" indent="-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  <a:ea typeface="MS PGothic"/>
              </a:rPr>
              <a:t>One day of professional develop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3716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  <a:ea typeface="MS PGothic"/>
              </a:rPr>
              <a:t>4 days of intensive course writing on si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371600" indent="-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  <a:ea typeface="MS PGothic"/>
              </a:rPr>
              <a:t>Follow-up course writing online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Subtitle 2"/>
          <p:cNvSpPr/>
          <p:nvPr/>
        </p:nvSpPr>
        <p:spPr>
          <a:xfrm>
            <a:off x="674640" y="2730600"/>
            <a:ext cx="76532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236ff"/>
                </a:solidFill>
                <a:latin typeface="Georgia"/>
              </a:rPr>
              <a:t>UCCI  INTEGRATED COURSE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236ff"/>
                </a:solidFill>
                <a:latin typeface="Georgia"/>
              </a:rPr>
              <a:t>DEVELOPMENT PROCES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5" name="Picture 5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627" name="TextBox 4"/>
          <p:cNvSpPr/>
          <p:nvPr/>
        </p:nvSpPr>
        <p:spPr>
          <a:xfrm>
            <a:off x="1785960" y="63165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itle 1"/>
          <p:cNvSpPr/>
          <p:nvPr/>
        </p:nvSpPr>
        <p:spPr>
          <a:xfrm>
            <a:off x="304920" y="3862440"/>
            <a:ext cx="8510400" cy="191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>
                <a:alpha val="75000"/>
              </a:srgbClr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Le Francais et Marketing (Level 3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Spanish for the Entrepreneurial Mind (Level 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Subtitle 2"/>
          <p:cNvSpPr/>
          <p:nvPr/>
        </p:nvSpPr>
        <p:spPr>
          <a:xfrm>
            <a:off x="674640" y="2730600"/>
            <a:ext cx="76532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236ff"/>
                </a:solidFill>
                <a:latin typeface="Georgia"/>
              </a:rPr>
              <a:t>UCCI COURSES APPROVED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236ff"/>
                </a:solidFill>
                <a:latin typeface="Georgia"/>
              </a:rPr>
              <a:t>From the  FALL 2012 INSTITUT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Picture 5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633" name="TextBox 4"/>
          <p:cNvSpPr/>
          <p:nvPr/>
        </p:nvSpPr>
        <p:spPr>
          <a:xfrm>
            <a:off x="1785960" y="63165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itle 1"/>
          <p:cNvSpPr/>
          <p:nvPr/>
        </p:nvSpPr>
        <p:spPr>
          <a:xfrm>
            <a:off x="304920" y="3616200"/>
            <a:ext cx="8510400" cy="191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>
                <a:alpha val="75000"/>
              </a:srgbClr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Georgia"/>
              </a:rPr>
              <a:t>World Languages (LOTE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Health Science and Medical Technolog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Subtitle 2"/>
          <p:cNvSpPr/>
          <p:nvPr/>
        </p:nvSpPr>
        <p:spPr>
          <a:xfrm>
            <a:off x="674640" y="2730600"/>
            <a:ext cx="76532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236ff"/>
                </a:solidFill>
                <a:latin typeface="Georgia"/>
                <a:ea typeface="ＭＳ Ｐゴシック"/>
              </a:rPr>
              <a:t>UCCI COURSES SPRING 2013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5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639" name="TextBox 4"/>
          <p:cNvSpPr/>
          <p:nvPr/>
        </p:nvSpPr>
        <p:spPr>
          <a:xfrm>
            <a:off x="1785960" y="63165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itle 1"/>
          <p:cNvSpPr/>
          <p:nvPr/>
        </p:nvSpPr>
        <p:spPr>
          <a:xfrm>
            <a:off x="304920" y="3616200"/>
            <a:ext cx="8510400" cy="27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>
                <a:alpha val="75000"/>
              </a:srgbClr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Participant: Draft a  course with team (</a:t>
            </a:r>
            <a:r>
              <a:rPr b="0" i="1" lang="en-US" sz="2800" spc="-1" strike="noStrike">
                <a:solidFill>
                  <a:srgbClr val="ff0000"/>
                </a:solidFill>
                <a:latin typeface="Georgia"/>
              </a:rPr>
              <a:t>experience A-G, WL and CTE Industry Sectors/Standard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Content Advisor: Knowledge of </a:t>
            </a:r>
            <a:r>
              <a:rPr b="0" i="1" lang="en-US" sz="2800" spc="-1" strike="noStrike">
                <a:solidFill>
                  <a:srgbClr val="0000ff"/>
                </a:solidFill>
                <a:latin typeface="Georgia"/>
              </a:rPr>
              <a:t>standards-based curriculum development and A-G Course outli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Facilitator: Experience with leading grou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Subtitle 2"/>
          <p:cNvSpPr/>
          <p:nvPr/>
        </p:nvSpPr>
        <p:spPr>
          <a:xfrm>
            <a:off x="674640" y="2730600"/>
            <a:ext cx="76532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236ff"/>
                </a:solidFill>
                <a:latin typeface="Georgia"/>
                <a:ea typeface="ＭＳ Ｐゴシック"/>
              </a:rPr>
              <a:t>HOW YOU CAN PARTICIPATE IN UCCI COURSE DEVELOPMENT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3" name="Picture 5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645" name="TextBox 4"/>
          <p:cNvSpPr/>
          <p:nvPr/>
        </p:nvSpPr>
        <p:spPr>
          <a:xfrm>
            <a:off x="1785960" y="63165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itle 1"/>
          <p:cNvSpPr/>
          <p:nvPr/>
        </p:nvSpPr>
        <p:spPr>
          <a:xfrm>
            <a:off x="695160" y="3203640"/>
            <a:ext cx="7653600" cy="1469880"/>
          </a:xfrm>
          <a:prstGeom prst="rect">
            <a:avLst/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2236ff"/>
                </a:solidFill>
                <a:latin typeface="Georgia"/>
              </a:rPr>
              <a:t>HOW CAN I TEACH THESE APPROVED COURSES IN            MY SCHOOL? 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Subtitle 2"/>
          <p:cNvSpPr/>
          <p:nvPr/>
        </p:nvSpPr>
        <p:spPr>
          <a:xfrm>
            <a:off x="750960" y="5483160"/>
            <a:ext cx="7653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9" name="Picture 7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651" name="TextBox 4"/>
          <p:cNvSpPr/>
          <p:nvPr/>
        </p:nvSpPr>
        <p:spPr>
          <a:xfrm>
            <a:off x="1785960" y="63165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itle 1"/>
          <p:cNvSpPr/>
          <p:nvPr/>
        </p:nvSpPr>
        <p:spPr>
          <a:xfrm>
            <a:off x="695160" y="3579840"/>
            <a:ext cx="7653600" cy="2162160"/>
          </a:xfrm>
          <a:prstGeom prst="rect">
            <a:avLst/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Program Informatio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Sarah Fidelib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UCCI Program Manag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i="1" lang="en-US" sz="2800" spc="-1" strike="noStrike">
                <a:solidFill>
                  <a:srgbClr val="0000ff"/>
                </a:solidFill>
                <a:latin typeface="Georgia"/>
              </a:rPr>
              <a:t>(510) 287-3349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web site:  </a:t>
            </a:r>
            <a:r>
              <a:rPr b="0" i="1" lang="en-US" sz="2800" spc="-1" strike="noStrike">
                <a:solidFill>
                  <a:srgbClr val="0000ff"/>
                </a:solidFill>
                <a:latin typeface="Georgia"/>
              </a:rPr>
              <a:t>www.ucopedu/ucci/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Subtitle 2"/>
          <p:cNvSpPr/>
          <p:nvPr/>
        </p:nvSpPr>
        <p:spPr>
          <a:xfrm>
            <a:off x="750960" y="5483160"/>
            <a:ext cx="7653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5" name="Picture 7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657" name="TextBox 4"/>
          <p:cNvSpPr/>
          <p:nvPr/>
        </p:nvSpPr>
        <p:spPr>
          <a:xfrm>
            <a:off x="1785960" y="63165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TextBox 7"/>
          <p:cNvSpPr/>
          <p:nvPr/>
        </p:nvSpPr>
        <p:spPr>
          <a:xfrm>
            <a:off x="750960" y="2917800"/>
            <a:ext cx="76532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2236ff"/>
                </a:solidFill>
                <a:latin typeface="Georgia"/>
              </a:rPr>
              <a:t>UCCI CONTACTS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itle 1"/>
          <p:cNvSpPr/>
          <p:nvPr/>
        </p:nvSpPr>
        <p:spPr>
          <a:xfrm>
            <a:off x="695160" y="3579840"/>
            <a:ext cx="7653600" cy="2162160"/>
          </a:xfrm>
          <a:prstGeom prst="rect">
            <a:avLst/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Teacher/Participant Contact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Katie Lesl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UCCI Projects Coordinato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i="1" lang="en-US" sz="2700" spc="-1" strike="noStrike">
                <a:solidFill>
                  <a:srgbClr val="0000ff"/>
                </a:solidFill>
                <a:latin typeface="Georgia"/>
              </a:rPr>
              <a:t>(510) 587-6195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email:</a:t>
            </a:r>
            <a:r>
              <a:rPr b="0" i="1" lang="en-US" sz="2700" spc="-1" strike="noStrike">
                <a:solidFill>
                  <a:srgbClr val="0000ff"/>
                </a:solidFill>
                <a:latin typeface="Georgia"/>
              </a:rPr>
              <a:t>Katherine.Leslie@ucop.ed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Subtitle 2"/>
          <p:cNvSpPr/>
          <p:nvPr/>
        </p:nvSpPr>
        <p:spPr>
          <a:xfrm>
            <a:off x="750960" y="5483160"/>
            <a:ext cx="7653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2" name="Picture 7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664" name="TextBox 4"/>
          <p:cNvSpPr/>
          <p:nvPr/>
        </p:nvSpPr>
        <p:spPr>
          <a:xfrm>
            <a:off x="1785960" y="63165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TextBox 7"/>
          <p:cNvSpPr/>
          <p:nvPr/>
        </p:nvSpPr>
        <p:spPr>
          <a:xfrm>
            <a:off x="750960" y="2917800"/>
            <a:ext cx="76532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2236ff"/>
                </a:solidFill>
                <a:latin typeface="Georgia"/>
              </a:rPr>
              <a:t>UCCI CONTACTS cont.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Subtitle 2"/>
          <p:cNvSpPr/>
          <p:nvPr/>
        </p:nvSpPr>
        <p:spPr>
          <a:xfrm>
            <a:off x="750960" y="5824440"/>
            <a:ext cx="765324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8" name="Picture 7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670" name="TextBox 4"/>
          <p:cNvSpPr/>
          <p:nvPr/>
        </p:nvSpPr>
        <p:spPr>
          <a:xfrm>
            <a:off x="1785960" y="63165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Footer Placeholder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TextBox 8"/>
          <p:cNvSpPr/>
          <p:nvPr/>
        </p:nvSpPr>
        <p:spPr>
          <a:xfrm>
            <a:off x="304920" y="2409840"/>
            <a:ext cx="8688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CONCLUSION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Georgia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DISCUSSION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Georgia"/>
              </a:rPr>
              <a:t>REVIEW PRESENTATION GOAL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itle 1"/>
          <p:cNvSpPr/>
          <p:nvPr/>
        </p:nvSpPr>
        <p:spPr>
          <a:xfrm>
            <a:off x="695160" y="2793960"/>
            <a:ext cx="7653600" cy="3005280"/>
          </a:xfrm>
          <a:prstGeom prst="rect">
            <a:avLst/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Georgia"/>
              </a:rPr>
              <a:t>Thank you for attending!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  <a:p>
            <a:pPr marL="10944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ff"/>
                </a:solidFill>
                <a:latin typeface="Georgia"/>
              </a:rPr>
              <a:t>For further exploration of these concepts, please plan to attend the </a:t>
            </a:r>
            <a:r>
              <a:rPr b="0" lang="en-US" sz="3700" spc="-1" strike="noStrike">
                <a:solidFill>
                  <a:srgbClr val="ff0000"/>
                </a:solidFill>
                <a:latin typeface="Georgia"/>
              </a:rPr>
              <a:t>Summer Seminar, July 18th-24</a:t>
            </a:r>
            <a:r>
              <a:rPr b="0" lang="en-US" sz="3700" spc="-1" strike="noStrike" baseline="30000">
                <a:solidFill>
                  <a:srgbClr val="ff0000"/>
                </a:solidFill>
                <a:latin typeface="Georgia"/>
              </a:rPr>
              <a:t>th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  <a:p>
            <a:pPr marL="10944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ff"/>
                </a:solidFill>
                <a:latin typeface="Georgia"/>
              </a:rPr>
              <a:t>UC, Santa Barbara 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4" name="Subtitle 2"/>
          <p:cNvSpPr/>
          <p:nvPr/>
        </p:nvSpPr>
        <p:spPr>
          <a:xfrm>
            <a:off x="750960" y="5483160"/>
            <a:ext cx="7653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6" name="Picture 7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678" name="TextBox 4"/>
          <p:cNvSpPr/>
          <p:nvPr/>
        </p:nvSpPr>
        <p:spPr>
          <a:xfrm>
            <a:off x="1785960" y="63579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1"/>
          <p:cNvSpPr/>
          <p:nvPr/>
        </p:nvSpPr>
        <p:spPr>
          <a:xfrm>
            <a:off x="419040" y="2540160"/>
            <a:ext cx="8574120" cy="3870000"/>
          </a:xfrm>
          <a:prstGeom prst="rect">
            <a:avLst/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ＭＳ Ｐゴシック"/>
              </a:rPr>
              <a:t>Presentation Goals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2236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236ff"/>
                </a:solidFill>
                <a:latin typeface="Georgi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2236ff"/>
                </a:solidFill>
                <a:latin typeface="Georgia"/>
                <a:ea typeface="ＭＳ Ｐゴシック"/>
              </a:rPr>
              <a:t>Learn about local efforts in this new are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2236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  <a:ea typeface="ＭＳ Ｐゴシック"/>
              </a:rPr>
              <a:t>Share current statewide efforts that support CTE education in the context of A-G cours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2236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236ff"/>
                </a:solidFill>
                <a:latin typeface="Georgia"/>
                <a:ea typeface="ＭＳ Ｐゴシック"/>
              </a:rPr>
              <a:t>Develop a common understanding of the concept of “college and career ready” and its relationship to WL education, CTE and 21</a:t>
            </a:r>
            <a:r>
              <a:rPr b="0" lang="en-US" sz="2800" spc="-1" strike="noStrike" baseline="30000">
                <a:solidFill>
                  <a:srgbClr val="2236ff"/>
                </a:solidFill>
                <a:latin typeface="Georgia"/>
                <a:ea typeface="ＭＳ Ｐゴシック"/>
              </a:rPr>
              <a:t>st</a:t>
            </a:r>
            <a:r>
              <a:rPr b="0" lang="en-US" sz="2800" spc="-1" strike="noStrike">
                <a:solidFill>
                  <a:srgbClr val="2236ff"/>
                </a:solidFill>
                <a:latin typeface="Georgia"/>
                <a:ea typeface="ＭＳ Ｐゴシック"/>
              </a:rPr>
              <a:t> Century Skill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69" name="Picture 1" descr=""/>
          <p:cNvPicPr/>
          <p:nvPr/>
        </p:nvPicPr>
        <p:blipFill>
          <a:blip r:embed="rId1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570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Footer Placeholder 1"/>
          <p:cNvSpPr/>
          <p:nvPr/>
        </p:nvSpPr>
        <p:spPr>
          <a:xfrm>
            <a:off x="2478240" y="6410160"/>
            <a:ext cx="39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16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16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itle 1"/>
          <p:cNvSpPr/>
          <p:nvPr/>
        </p:nvSpPr>
        <p:spPr>
          <a:xfrm>
            <a:off x="163440" y="3579840"/>
            <a:ext cx="8829720" cy="2162160"/>
          </a:xfrm>
          <a:prstGeom prst="rect">
            <a:avLst/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Tanya Zaccone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Georgia"/>
                <a:hlinkClick r:id="rId1"/>
              </a:rPr>
              <a:t>tzaccone@surewest.n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vetlana Lazarova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slazarova@psusd.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Duarte Silva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duarte.silva@stanford.ed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Subtitle 2"/>
          <p:cNvSpPr/>
          <p:nvPr/>
        </p:nvSpPr>
        <p:spPr>
          <a:xfrm>
            <a:off x="750960" y="5483160"/>
            <a:ext cx="7653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2" name="Picture 7" descr=""/>
          <p:cNvPicPr/>
          <p:nvPr/>
        </p:nvPicPr>
        <p:blipFill>
          <a:blip r:embed="rId3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1" descr=""/>
          <p:cNvPicPr/>
          <p:nvPr/>
        </p:nvPicPr>
        <p:blipFill>
          <a:blip r:embed="rId4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684" name="TextBox 4"/>
          <p:cNvSpPr/>
          <p:nvPr/>
        </p:nvSpPr>
        <p:spPr>
          <a:xfrm>
            <a:off x="1785960" y="63165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TextBox 7"/>
          <p:cNvSpPr/>
          <p:nvPr/>
        </p:nvSpPr>
        <p:spPr>
          <a:xfrm>
            <a:off x="326880" y="2593800"/>
            <a:ext cx="866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236ff"/>
                </a:solidFill>
                <a:latin typeface="Georgia"/>
              </a:rPr>
              <a:t>FACILITATORS’ CONTACT INFORMA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10944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itle 1"/>
          <p:cNvSpPr/>
          <p:nvPr/>
        </p:nvSpPr>
        <p:spPr>
          <a:xfrm>
            <a:off x="533520" y="2374920"/>
            <a:ext cx="7985160" cy="1198440"/>
          </a:xfrm>
          <a:prstGeom prst="rect">
            <a:avLst/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236ff"/>
                </a:solidFill>
                <a:latin typeface="Georgia"/>
              </a:rPr>
              <a:t>Assessing Where We Are  Now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Subtitle 2"/>
          <p:cNvSpPr/>
          <p:nvPr/>
        </p:nvSpPr>
        <p:spPr>
          <a:xfrm>
            <a:off x="750960" y="5483160"/>
            <a:ext cx="7653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5" name="Picture 7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577" name="Footer Placeholder 1"/>
          <p:cNvSpPr/>
          <p:nvPr/>
        </p:nvSpPr>
        <p:spPr>
          <a:xfrm>
            <a:off x="2006640" y="6410160"/>
            <a:ext cx="44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18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18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Title 1"/>
          <p:cNvSpPr/>
          <p:nvPr/>
        </p:nvSpPr>
        <p:spPr>
          <a:xfrm>
            <a:off x="533520" y="3573360"/>
            <a:ext cx="7985160" cy="2662200"/>
          </a:xfrm>
          <a:prstGeom prst="rect">
            <a:avLst/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023840" indent="-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  <a:ea typeface="MS PGothic"/>
              </a:rPr>
              <a:t>Name and Scho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102384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  <a:ea typeface="MS PGothic"/>
              </a:rPr>
              <a:t>What comes to your mind when you hear the term </a:t>
            </a:r>
            <a:r>
              <a:rPr b="0" lang="ja-JP" sz="2800" spc="-1" strike="noStrike">
                <a:solidFill>
                  <a:srgbClr val="ff0000"/>
                </a:solidFill>
                <a:latin typeface="Georgia"/>
                <a:ea typeface="MS PGothic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  <a:ea typeface="MS PGothic"/>
              </a:rPr>
              <a:t>college and career ready</a:t>
            </a:r>
            <a:r>
              <a:rPr b="0" lang="ja-JP" sz="2800" spc="-1" strike="noStrike">
                <a:solidFill>
                  <a:srgbClr val="ff0000"/>
                </a:solidFill>
                <a:latin typeface="Georgia"/>
                <a:ea typeface="MS PGothic"/>
              </a:rPr>
              <a:t>”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  <a:ea typeface="MS PGothic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1023840" indent="-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  <a:ea typeface="MS PGothic"/>
              </a:rPr>
              <a:t>What CTE/World Language efforts are currently happening in your school/district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178920" y="150804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 Antiqua"/>
              </a:rPr>
              <a:t>To be college, career and world ready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80" name="Picture 2" descr="http://www.nurseweb.villanova.edu/womenwithdisabilities/Stress/Thought2.jpg"/>
          <p:cNvPicPr/>
          <p:nvPr/>
        </p:nvPicPr>
        <p:blipFill>
          <a:blip r:embed="rId1"/>
          <a:stretch/>
        </p:blipFill>
        <p:spPr>
          <a:xfrm>
            <a:off x="3100320" y="2746440"/>
            <a:ext cx="5388120" cy="3333600"/>
          </a:xfrm>
          <a:prstGeom prst="rect">
            <a:avLst/>
          </a:prstGeom>
          <a:ln w="0">
            <a:noFill/>
          </a:ln>
        </p:spPr>
      </p:pic>
      <p:sp>
        <p:nvSpPr>
          <p:cNvPr id="581" name="Title 1"/>
          <p:cNvSpPr/>
          <p:nvPr/>
        </p:nvSpPr>
        <p:spPr>
          <a:xfrm>
            <a:off x="228600" y="504720"/>
            <a:ext cx="883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236ff"/>
                </a:solidFill>
                <a:latin typeface="Georgia"/>
              </a:rPr>
              <a:t>What Students Should Know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236ff"/>
                </a:solidFill>
                <a:latin typeface="Georgia"/>
              </a:rPr>
              <a:t>and be Able to do…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TextBox 4"/>
          <p:cNvSpPr/>
          <p:nvPr/>
        </p:nvSpPr>
        <p:spPr>
          <a:xfrm>
            <a:off x="1785960" y="63165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TextBox 6"/>
          <p:cNvSpPr/>
          <p:nvPr/>
        </p:nvSpPr>
        <p:spPr>
          <a:xfrm>
            <a:off x="4162320" y="3784680"/>
            <a:ext cx="35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egin with the end in min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itle 1"/>
          <p:cNvSpPr/>
          <p:nvPr/>
        </p:nvSpPr>
        <p:spPr>
          <a:xfrm>
            <a:off x="533520" y="3143160"/>
            <a:ext cx="7985160" cy="1470240"/>
          </a:xfrm>
          <a:prstGeom prst="rect">
            <a:avLst/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2236ff"/>
                </a:solidFill>
                <a:latin typeface="Georgia"/>
                <a:ea typeface="ＭＳ Ｐゴシック"/>
              </a:rPr>
              <a:t>World Language Content Standards/CTE Sectors/21</a:t>
            </a:r>
            <a:r>
              <a:rPr b="0" lang="en-US" sz="3700" spc="-1" strike="noStrike" baseline="30000">
                <a:solidFill>
                  <a:srgbClr val="2236ff"/>
                </a:solidFill>
                <a:latin typeface="Georgia"/>
                <a:ea typeface="ＭＳ Ｐゴシック"/>
              </a:rPr>
              <a:t>st</a:t>
            </a:r>
            <a:r>
              <a:rPr b="0" lang="en-US" sz="3700" spc="-1" strike="noStrike">
                <a:solidFill>
                  <a:srgbClr val="2236ff"/>
                </a:solidFill>
                <a:latin typeface="Georgia"/>
                <a:ea typeface="ＭＳ Ｐゴシック"/>
              </a:rPr>
              <a:t> Century Skills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Subtitle 2"/>
          <p:cNvSpPr/>
          <p:nvPr/>
        </p:nvSpPr>
        <p:spPr>
          <a:xfrm>
            <a:off x="750960" y="5483160"/>
            <a:ext cx="7653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87" name="Picture 7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589" name="TextBox 4"/>
          <p:cNvSpPr/>
          <p:nvPr/>
        </p:nvSpPr>
        <p:spPr>
          <a:xfrm>
            <a:off x="1785960" y="63579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ubtitle 2"/>
          <p:cNvSpPr/>
          <p:nvPr/>
        </p:nvSpPr>
        <p:spPr>
          <a:xfrm>
            <a:off x="750960" y="5483160"/>
            <a:ext cx="7653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TextBox 4"/>
          <p:cNvSpPr/>
          <p:nvPr/>
        </p:nvSpPr>
        <p:spPr>
          <a:xfrm>
            <a:off x="2816280" y="501480"/>
            <a:ext cx="5589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odoni SvtyTwo SC ITC TT-Book"/>
              </a:rPr>
              <a:t>CTE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Bodoni SvtyTwo SC ITC TT-Book"/>
              </a:rPr>
              <a:t>INDUSTRY SECTOR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92" name="Picture 7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594" name="Footer Placeholder 1"/>
          <p:cNvSpPr/>
          <p:nvPr/>
        </p:nvSpPr>
        <p:spPr>
          <a:xfrm>
            <a:off x="281628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12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12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95" name="Content Placeholder 5" descr="Screen shot 2013-02-19 at 1.10.03 PM.png"/>
          <p:cNvPicPr/>
          <p:nvPr/>
        </p:nvPicPr>
        <p:blipFill>
          <a:blip r:embed="rId3"/>
          <a:srcRect l="-380" t="0" r="-1000" b="0"/>
          <a:stretch/>
        </p:blipFill>
        <p:spPr>
          <a:xfrm>
            <a:off x="304920" y="1623960"/>
            <a:ext cx="82659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1"/>
          <p:cNvSpPr/>
          <p:nvPr/>
        </p:nvSpPr>
        <p:spPr>
          <a:xfrm>
            <a:off x="209520" y="2630520"/>
            <a:ext cx="8783640" cy="3240000"/>
          </a:xfrm>
          <a:prstGeom prst="rect">
            <a:avLst/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Subtitle 2"/>
          <p:cNvSpPr/>
          <p:nvPr/>
        </p:nvSpPr>
        <p:spPr>
          <a:xfrm>
            <a:off x="750960" y="5483160"/>
            <a:ext cx="7653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99" name="Picture 7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601" name="TextBox 4"/>
          <p:cNvSpPr/>
          <p:nvPr/>
        </p:nvSpPr>
        <p:spPr>
          <a:xfrm>
            <a:off x="1785960" y="63165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122040" y="2630160"/>
            <a:ext cx="287964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Georgia"/>
              </a:rPr>
              <a:t>CTE and      21</a:t>
            </a:r>
            <a:r>
              <a:rPr b="0" lang="en-US" sz="4000" spc="-1" strike="noStrike" baseline="30000">
                <a:solidFill>
                  <a:srgbClr val="0000ff"/>
                </a:solidFill>
                <a:latin typeface="Georgia"/>
              </a:rPr>
              <a:t>st</a:t>
            </a:r>
            <a:r>
              <a:rPr b="0" lang="en-US" sz="4000" spc="-1" strike="noStrike">
                <a:solidFill>
                  <a:srgbClr val="0000ff"/>
                </a:solidFill>
                <a:latin typeface="Georgia"/>
              </a:rPr>
              <a:t> Century Skills Map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3" name="Picture 7" descr=""/>
          <p:cNvPicPr/>
          <p:nvPr/>
        </p:nvPicPr>
        <p:blipFill>
          <a:blip r:embed="rId3"/>
          <a:stretch/>
        </p:blipFill>
        <p:spPr>
          <a:xfrm>
            <a:off x="2879640" y="2128680"/>
            <a:ext cx="58658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210600" y="171936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Book Antiqua"/>
              </a:rPr>
              <a:t>Global Awarenes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Book Antiqua"/>
              </a:rPr>
              <a:t>Financial, Economic, </a:t>
            </a:r>
            <a:br>
              <a:rPr sz="2700"/>
            </a:br>
            <a:r>
              <a:rPr b="0" lang="en-US" sz="2700" spc="-1" strike="noStrike">
                <a:solidFill>
                  <a:srgbClr val="0000ff"/>
                </a:solidFill>
                <a:latin typeface="Book Antiqua"/>
              </a:rPr>
              <a:t>Business and </a:t>
            </a:r>
            <a:br>
              <a:rPr sz="2700"/>
            </a:br>
            <a:r>
              <a:rPr b="0" lang="en-US" sz="2700" spc="-1" strike="noStrike">
                <a:solidFill>
                  <a:srgbClr val="ff0000"/>
                </a:solidFill>
                <a:latin typeface="Book Antiqua"/>
              </a:rPr>
              <a:t>Entrepreneurial Literac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Book Antiqua"/>
              </a:rPr>
              <a:t>Civic Literac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Book Antiqua"/>
              </a:rPr>
              <a:t>Health and Environmental</a:t>
            </a:r>
            <a:br>
              <a:rPr sz="2700"/>
            </a:br>
            <a:r>
              <a:rPr b="0" lang="en-US" sz="2700" spc="-1" strike="noStrike">
                <a:solidFill>
                  <a:srgbClr val="ff0000"/>
                </a:solidFill>
                <a:latin typeface="Book Antiqua"/>
              </a:rPr>
              <a:t> Literac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5" name="Picture 6" descr="P21Graphic.png"/>
          <p:cNvPicPr/>
          <p:nvPr/>
        </p:nvPicPr>
        <p:blipFill>
          <a:blip r:embed="rId1"/>
          <a:stretch/>
        </p:blipFill>
        <p:spPr>
          <a:xfrm>
            <a:off x="4818240" y="1719360"/>
            <a:ext cx="4032000" cy="2971800"/>
          </a:xfrm>
          <a:prstGeom prst="rect">
            <a:avLst/>
          </a:prstGeom>
          <a:ln w="0">
            <a:noFill/>
          </a:ln>
        </p:spPr>
      </p:pic>
      <p:sp>
        <p:nvSpPr>
          <p:cNvPr id="606" name="Title 1"/>
          <p:cNvSpPr/>
          <p:nvPr/>
        </p:nvSpPr>
        <p:spPr>
          <a:xfrm>
            <a:off x="210960" y="217440"/>
            <a:ext cx="883764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236ff"/>
                </a:solidFill>
                <a:latin typeface="Georgia"/>
              </a:rPr>
              <a:t>P21 Interdisciplinary Theme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TextBox 4"/>
          <p:cNvSpPr/>
          <p:nvPr/>
        </p:nvSpPr>
        <p:spPr>
          <a:xfrm>
            <a:off x="1785960" y="63165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ubtitle 2"/>
          <p:cNvSpPr/>
          <p:nvPr/>
        </p:nvSpPr>
        <p:spPr>
          <a:xfrm>
            <a:off x="750960" y="5483160"/>
            <a:ext cx="7653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7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612" name="TextBox 4"/>
          <p:cNvSpPr/>
          <p:nvPr/>
        </p:nvSpPr>
        <p:spPr>
          <a:xfrm>
            <a:off x="1785960" y="63165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Content Placeholder 6"/>
          <p:cNvSpPr/>
          <p:nvPr/>
        </p:nvSpPr>
        <p:spPr>
          <a:xfrm>
            <a:off x="5032440" y="3144960"/>
            <a:ext cx="36036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Flexibility and Adaptabil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eorgia"/>
              </a:rPr>
              <a:t>Initiative and Self-Direc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Social and Cross-Cultural Skil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eorgia"/>
              </a:rPr>
              <a:t>Productivity and Accountabil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Leadership and Responsibil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Content Placeholder 5"/>
          <p:cNvSpPr/>
          <p:nvPr/>
        </p:nvSpPr>
        <p:spPr>
          <a:xfrm>
            <a:off x="555480" y="3132000"/>
            <a:ext cx="4038840" cy="30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eorgia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eorgia"/>
              </a:rPr>
              <a:t>Critical Thinking and Problem Solv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Creativity and Innov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Georgia"/>
              </a:rPr>
              <a:t>Information Literac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Media Literac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eorgia"/>
              </a:rPr>
              <a:t>Technology Literac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Title 4"/>
          <p:cNvSpPr/>
          <p:nvPr/>
        </p:nvSpPr>
        <p:spPr>
          <a:xfrm>
            <a:off x="301680" y="2346480"/>
            <a:ext cx="85345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Georgia"/>
              </a:rPr>
              <a:t>World Language 21</a:t>
            </a:r>
            <a:r>
              <a:rPr b="0" lang="en-US" sz="2800" spc="-1" strike="noStrike" baseline="30000">
                <a:solidFill>
                  <a:srgbClr val="4f81bd"/>
                </a:solidFill>
                <a:latin typeface="Georgia"/>
              </a:rPr>
              <a:t>st</a:t>
            </a:r>
            <a:r>
              <a:rPr b="0" lang="en-US" sz="2800" spc="-1" strike="noStrike">
                <a:solidFill>
                  <a:srgbClr val="4f81bd"/>
                </a:solidFill>
                <a:latin typeface="Georgia"/>
              </a:rPr>
              <a:t> Century Skills Map Domain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03:39:14Z</dcterms:created>
  <dc:creator>julie morsellino</dc:creator>
  <dc:description/>
  <dc:language>en-US</dc:language>
  <cp:lastModifiedBy>Silva Duarte</cp:lastModifiedBy>
  <dcterms:modified xsi:type="dcterms:W3CDTF">2013-07-20T13:43:57Z</dcterms:modified>
  <cp:revision>173</cp:revision>
  <dc:subject/>
  <dc:title>Slide 1</dc:title>
</cp:coreProperties>
</file>